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3F28-B22C-47E6-8234-FD3E2019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E1BA-A6B6-4851-B070-87985C3B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E0B8-2B24-4F0F-A45B-F28242C6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098F-C9E0-4EEB-AA28-B0ED434F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B71-9933-4723-BB21-19D03923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CAA5-19C0-4CB8-B255-2BF199C3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D001-BB23-42B7-9600-8F6304D6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9B5A-45D4-429B-85DE-EDE6175B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1751-A378-47D6-A833-E0D74F93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6BFD-15D4-462F-8AAB-2F5360E2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7DAE-ADE2-4C55-87B7-5725332F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B348-8C7C-4986-BDC9-E9AE12D5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3166-EAE8-40B5-BC46-91B46C79906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Kiosk M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Yes you are in Kiosk mod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On click still works though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But the keyboard doesn'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Nor does the mouse whe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Click the NEXT button for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ction Button: Forward or Next 5">
            <a:hlinkClick r:id="" action="ppaction://hlinkshowjump?jump=nextslide"/>
          </p:cNvPr>
          <p:cNvSpPr/>
          <p:nvPr/>
        </p:nvSpPr>
        <p:spPr>
          <a:xfrm>
            <a:off x="7429680" y="6286680"/>
            <a:ext cx="1143000" cy="428400"/>
          </a:xfrm>
          <a:custGeom>
            <a:avLst/>
            <a:gdLst>
              <a:gd name="textAreaLeft" fmla="*/ 27720 w 1143000"/>
              <a:gd name="textAreaRight" fmla="*/ 1115280 w 11430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00" h="21600">
                <a:moveTo>
                  <a:pt x="21794" y="3794"/>
                </a:moveTo>
                <a:lnTo>
                  <a:pt x="35806" y="10800"/>
                </a:lnTo>
                <a:lnTo>
                  <a:pt x="21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f81b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Next Slid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13:05:28Z</dcterms:created>
  <dc:creator>John Wilson</dc:creator>
  <dc:description/>
  <dc:language>en-US</dc:language>
  <cp:lastModifiedBy>John Wilson</cp:lastModifiedBy>
  <dcterms:modified xsi:type="dcterms:W3CDTF">2008-03-06T13:10:16Z</dcterms:modified>
  <cp:revision>1</cp:revision>
  <dc:subject/>
  <dc:title>Kiosk Mode</dc:title>
</cp:coreProperties>
</file>